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gif" ContentType="image/gif"/>
  <Override PartName="/ppt/media/image12.jpeg" ContentType="image/jpeg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FB00-2038-464C-BA5D-D488E4C5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8DB-B65F-4BE6-BE30-91BB183A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A0BC-BDD6-4705-B2F1-E0CE46FB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3F2-BAD6-470A-9235-FF94D530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5892-399B-4AF3-8749-95F15A02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DEBF-C4AE-4768-B433-52E65535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4284-B24D-4A5B-ACB9-6EE4819E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D423-341D-44EF-8AD6-D853DA62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C5AF-C78E-4716-8AA8-4A446A27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367-02AB-465C-B1FE-6271A7FF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1611-CB1C-452D-B961-0860187B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CAA-6AA4-45B6-8366-2D1F0ECB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5164-9753-415B-9A1A-573E8B19E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w a Bigger Bub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dra Patt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174132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s flabbergasted by the conclusion.  Orbit blew the biggest bubble.  A gum that is meant for chewing and not bl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0" y="3200400"/>
            <a:ext cx="3809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572000" cy="2819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4191120"/>
            <a:ext cx="4572000" cy="2666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4572000" cy="2666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572000" y="1371600"/>
            <a:ext cx="4572000" cy="2819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522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of my particip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brands of bubble gum produce the biggest bub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1504800" cy="3510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3962520"/>
            <a:ext cx="1936800" cy="2454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962520" y="2514600"/>
            <a:ext cx="2257200" cy="2316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705720" y="22860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562720" y="4648320"/>
            <a:ext cx="15192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Double Bubble is going to make the biggest bub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35053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Y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icy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bba Bu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Bub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rd stick/ measuring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38354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4 people of each gender who think they are good at blowing bubbl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Bubble Yum, Hubba Bubba, Juicy Fruit and Double Bub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each blow 3 bubbles of each kind of bubble g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how long each bubble is in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0480"/>
        </p:xfrm>
        <a:graphic>
          <a:graphicData uri="http://schemas.openxmlformats.org/drawingml/2006/table">
            <a:tbl>
              <a:tblPr/>
              <a:tblGrid>
                <a:gridCol w="1496880"/>
                <a:gridCol w="1873440"/>
                <a:gridCol w="1496880"/>
                <a:gridCol w="1498680"/>
                <a:gridCol w="186372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ryn Gilles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llas Rh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5235480"/>
        </p:xfrm>
        <a:graphic>
          <a:graphicData uri="http://schemas.openxmlformats.org/drawingml/2006/table">
            <a:tbl>
              <a:tblPr/>
              <a:tblGrid>
                <a:gridCol w="1566720"/>
                <a:gridCol w="1960560"/>
                <a:gridCol w="1567080"/>
                <a:gridCol w="1568520"/>
                <a:gridCol w="156672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ckyn F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yde Sundhe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8880" cy="4525560"/>
        </p:xfrm>
        <a:graphic>
          <a:graphicData uri="http://schemas.openxmlformats.org/drawingml/2006/table">
            <a:tbl>
              <a:tblPr/>
              <a:tblGrid>
                <a:gridCol w="1645200"/>
                <a:gridCol w="1646280"/>
                <a:gridCol w="1645560"/>
                <a:gridCol w="1645560"/>
                <a:gridCol w="1646280"/>
              </a:tblGrid>
              <a:tr h="1055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ndrah Pay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1600200"/>
          <a:ext cx="8838720" cy="2971800"/>
        </p:xfrm>
        <a:graphic>
          <a:graphicData uri="http://schemas.openxmlformats.org/drawingml/2006/table">
            <a:tbl>
              <a:tblPr/>
              <a:tblGrid>
                <a:gridCol w="1609920"/>
                <a:gridCol w="2005560"/>
                <a:gridCol w="1607760"/>
                <a:gridCol w="1609920"/>
                <a:gridCol w="2005560"/>
              </a:tblGrid>
              <a:tr h="116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ylan Bar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752480" y="4648320"/>
          <a:ext cx="5181840" cy="178272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</a:tblGrid>
              <a:tr h="747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1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9:55:01Z</dcterms:created>
  <dc:creator>USD376</dc:creator>
  <dc:description/>
  <dc:language>en-US</dc:language>
  <cp:lastModifiedBy>USD376</cp:lastModifiedBy>
  <dcterms:modified xsi:type="dcterms:W3CDTF">2010-12-16T20:03:08Z</dcterms:modified>
  <cp:revision>9</cp:revision>
  <dc:subject/>
  <dc:title>Blow a Bigger Bubble</dc:title>
</cp:coreProperties>
</file>